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66DD-DA45-468B-AD7A-BE47DB37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9228-DA40-4EED-AA15-57F41E30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69A3-7A71-4242-81E8-C9163154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55D6-6154-44E8-9115-0403099F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C9F6-8AF4-418F-B59E-68343000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4477-61E4-4B6B-8BEB-2BB03066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0EBC-43EF-4C17-93DB-D57402AE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E0D0-D359-438E-9F18-C6A701FF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64D7-F0DD-43B3-8607-A5D23E70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2C8A-4503-41D7-8058-005EB7AF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9D3B-57CD-4AAE-9E0F-ECB838E1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D7F6-CBAA-42EE-8E6A-9F61939D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F920-9E55-4587-8DAC-F9937567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9CEE-5B56-47D1-BA9E-2B5E50F6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58C2-638D-4E39-8BA8-83A378BD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F4A4-BF35-459F-BA18-FFA3AEB0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396C-96B6-4CE8-9BE9-F78B1D43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4BA4-B79E-4599-B9C0-CD9F29C7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3DCA-E949-4C25-B660-86EE67D8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1FB4-3C59-4156-AEE6-45C6594B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A65F-70A0-42DD-B3A4-184B9EC8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FC1F-1604-4A88-B08D-F657E919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876D-102E-421F-AA1F-538E75FF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7027-51F5-4BDF-B7D5-83AA10F2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49B0-07FF-41D5-ABA0-781FB59C434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D76C-416D-4271-99C4-B11F22CB669A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edritos-home.com/Logo_Cajasur_ok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edritos-home.com/Logo_Cajasur_ok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dritos-home.com/Logo_Cajasur_ok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edritos-home.com/Logo_Cajasur_ok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edritos-home.com/Logo_Cajasur_ok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4360" y="765000"/>
            <a:ext cx="81946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c000f"/>
                    </a:gs>
                    <a:gs pos="100000">
                      <a:srgbClr val="a5002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Organización y administracio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c000f"/>
                  </a:gs>
                  <a:gs pos="100000">
                    <a:srgbClr val="a50021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c000f"/>
                    </a:gs>
                    <a:gs pos="100000">
                      <a:srgbClr val="a5002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c000f"/>
                    </a:gs>
                    <a:gs pos="100000">
                      <a:srgbClr val="a5002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de empresa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c000f"/>
                  </a:gs>
                  <a:gs pos="100000">
                    <a:srgbClr val="a50021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904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87280" y="1413000"/>
            <a:ext cx="640908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esto 2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el título de su cargo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ble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su misión principal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actar las cuentas de forma correcta y fiable para evitar problemas con las auditorias externas y así reflejar la situación económica de la empresa en cada mo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Tiene autoridad sobre alguna person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bre la Administración Contable y sobre los Es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A qué personas tendría que obedec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Director del Área Financiera e Interventora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00000" y="476280"/>
            <a:ext cx="69120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ÁLISIS DE VARIOS PUESTOS DE TRABAJ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" name="" descr="Ver imagen en tamaño completo"/>
          <p:cNvPicPr/>
          <p:nvPr/>
        </p:nvPicPr>
        <p:blipFill>
          <a:blip r:embed="rId3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42920" y="1484280"/>
            <a:ext cx="698508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esto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el título de su cargo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fe de los Programas de 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su misión principal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aborar programas de formación para los nuevos integrantes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Existen cursos, quién los impar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, existen cursos para complementar la formación de nuestros empleados en varias materias. Lo imparte profesionales externos a la empresa o empleados con un alto nivel de formación  preparados para transmitir sus conocimi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A qué personas tendría que obedec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Jefe de Recursos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00000" y="476280"/>
            <a:ext cx="69120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ÁLISIS DE VARIOS PUESTOS DE TRABAJ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3" name="" descr="Ver imagen en tamaño completo"/>
          <p:cNvPicPr/>
          <p:nvPr/>
        </p:nvPicPr>
        <p:blipFill>
          <a:blip r:embed="rId3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484360" y="333360"/>
            <a:ext cx="482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DIC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1403280" y="2133720"/>
            <a:ext cx="2087640" cy="79200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I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4149720"/>
            <a:ext cx="2087640" cy="79056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TO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ING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5013360"/>
            <a:ext cx="2087640" cy="79056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G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3141720"/>
            <a:ext cx="2087640" cy="79056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RUCTU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268280"/>
            <a:ext cx="2087640" cy="71928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Ver imagen en tamaño complet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620640"/>
            <a:ext cx="5761080" cy="180036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I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328464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HIS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4005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MISIÓN 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Ver imagen en tamaño completo"/>
          <p:cNvPicPr/>
          <p:nvPr/>
        </p:nvPicPr>
        <p:blipFill>
          <a:blip r:embed="rId1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26920" y="119700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124000" y="404640"/>
            <a:ext cx="468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ISTORIA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1916280"/>
            <a:ext cx="720108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historia de Cajasur es relativamente reciente. Surje en 1995  de la fusión de Monte de Piedad y Caja de Ahorros de Córdoba, vinculada a la Iglesia Católica y la Caja Provincial de Ahorros de Córdoba, vinculada a la Diputación Provincial. Cajasur era un nombre con el cual venia operando el Monte de Piedad desde hacia 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Monte de Piedad y Caja de Ahorros de Córdoba conocido a lo largo de la historia con diversos nombres como Monte de Piedad de Córdoba, como Monte de Piedad del Sr Medina o Caja de Ahorros de Córdoba, fue fundada por el Cabildo Catedrático de Córdoba, como Monte de Piedad, el 1 de septiembre de 1864. En la actualidad es la Iglesia Católica quien sigue controlando a Cajas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179280" y="476280"/>
            <a:ext cx="5762880" cy="5304960"/>
            <a:chOff x="179280" y="476280"/>
            <a:chExt cx="5762880" cy="5304960"/>
          </a:xfrm>
        </p:grpSpPr>
        <p:sp>
          <p:nvSpPr>
            <p:cNvPr id="104" name="Pyr1"/>
            <p:cNvSpPr/>
            <p:nvPr/>
          </p:nvSpPr>
          <p:spPr>
            <a:xfrm>
              <a:off x="2421720" y="476280"/>
              <a:ext cx="1291680" cy="117576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Pyr2"/>
            <p:cNvSpPr/>
            <p:nvPr/>
          </p:nvSpPr>
          <p:spPr>
            <a:xfrm>
              <a:off x="1673640" y="1652040"/>
              <a:ext cx="2780640" cy="137952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Pyr3"/>
            <p:cNvSpPr/>
            <p:nvPr/>
          </p:nvSpPr>
          <p:spPr>
            <a:xfrm>
              <a:off x="933840" y="3031560"/>
              <a:ext cx="4259880" cy="137772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Pyr4"/>
            <p:cNvSpPr/>
            <p:nvPr/>
          </p:nvSpPr>
          <p:spPr>
            <a:xfrm>
              <a:off x="179280" y="4402080"/>
              <a:ext cx="5762880" cy="13791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700360" y="1341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256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32130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378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00360" y="49417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1413000"/>
            <a:ext cx="1368360" cy="144360"/>
          </a:xfrm>
          <a:prstGeom prst="rightArrow">
            <a:avLst>
              <a:gd name="adj1" fmla="val 50000"/>
              <a:gd name="adj2" fmla="val 23697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67280" y="2060640"/>
            <a:ext cx="1079280" cy="144360"/>
          </a:xfrm>
          <a:prstGeom prst="rightArrow">
            <a:avLst>
              <a:gd name="adj1" fmla="val 50000"/>
              <a:gd name="adj2" fmla="val 18690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2708280"/>
            <a:ext cx="1079280" cy="144360"/>
          </a:xfrm>
          <a:prstGeom prst="rightArrow">
            <a:avLst>
              <a:gd name="adj1" fmla="val 50000"/>
              <a:gd name="adj2" fmla="val 18690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4360" y="501336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328464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03640" y="3860640"/>
            <a:ext cx="1079640" cy="144720"/>
          </a:xfrm>
          <a:prstGeom prst="rightArrow">
            <a:avLst>
              <a:gd name="adj1" fmla="val 50000"/>
              <a:gd name="adj2" fmla="val 186505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112536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9640" y="119700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ndada por el Cabildo Catedrático de Córdoba como Monte de Pi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92720" y="1844640"/>
            <a:ext cx="34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robación de los primeros Estatutos y Reglamentos por Reales Órde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2492280"/>
            <a:ext cx="331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stituida formalmente por el mismo Cabildo Eclesiás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3068640"/>
            <a:ext cx="28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robación de los Estatutos vigentes en la actu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84720" y="3573360"/>
            <a:ext cx="2737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usión del Monte de Piedad y Caja de Ahorros de Córdoba y de la Caja Provincial de Ahorros de Córdoba. Adopta el nombre comercial de Cajasu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77080" y="4869000"/>
            <a:ext cx="208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enta con 3048 empleados y 485 oficinas repartidas en 15 provi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203640" y="981000"/>
            <a:ext cx="5499000" cy="3702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68360" y="2133720"/>
            <a:ext cx="358560" cy="358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2852640"/>
            <a:ext cx="3585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2133720"/>
            <a:ext cx="208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Provincias que tienen sucursales de Caja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285264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Provincias que no tienen sucursales de Caja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611280" y="476280"/>
            <a:ext cx="309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ISIÓN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3640" y="476280"/>
            <a:ext cx="352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ISIÓN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1916280"/>
            <a:ext cx="360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misión de Cajasur es a través de una fundación, hermandad… etc sin animo de lucro, ayudar  a aquellos que lo necesiten tanto económicamente como socialmente, dando trabajo a aquellos que con dedicación y esfuerzo desean llevar a cabo una labor en una Caja de Ahorros como Cajas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1844640"/>
            <a:ext cx="345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visión de Cajasur es abrir más oficinas en toda España y lograr sobrevivir a la situación económica que nos acontece saliendo airosos sin necesidad de cerrar oficinas ni dejando sin empleo a sus trabajadores. Da becas a estudiantes, ayuda a personas con discapacidad o en riesgo de exclusión social o subvencionando la conservación del patrimonio histórico-artístico y el medio amb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00000" y="981000"/>
            <a:ext cx="3743280" cy="100800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RUCTU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256536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ÁLISIS DE VARIOS PUESTO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41497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NÁLISIS DE LA CULTURA Y LOS VALORES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2997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NÁLISIS DELA ESTRUCTURA FORMAL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371628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NÁLISIS D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4869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UT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Ver imagen en tamaño completo"/>
          <p:cNvPicPr/>
          <p:nvPr/>
        </p:nvPicPr>
        <p:blipFill>
          <a:blip r:embed="rId1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16000" y="1557360"/>
            <a:ext cx="6192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esto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el título de su cargo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fa de Gestión Comercial y Produ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su misión principal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y controlar la productividad en la empresa para que resulte efic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Tiene autoridad sobre alguna person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bre el área de información comercial y el área de planificación comercial, y las personas que las integ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A qué personas tendría que obedec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director del área de Planificación Comercial y Marketing e indirectamente al Director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00000" y="476280"/>
            <a:ext cx="69120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ÁLISIS DE VARIOS PUESTOS DE TRABAJ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7" name="" descr="Ver imagen en tamaño completo"/>
          <p:cNvPicPr/>
          <p:nvPr/>
        </p:nvPicPr>
        <p:blipFill>
          <a:blip r:embed="rId3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0:50:49Z</dcterms:created>
  <dc:creator>Lena Salas</dc:creator>
  <dc:description/>
  <dc:language>en-US</dc:language>
  <cp:lastModifiedBy>Familia</cp:lastModifiedBy>
  <dcterms:modified xsi:type="dcterms:W3CDTF">2009-05-15T17:15:25Z</dcterms:modified>
  <cp:revision>4</cp:revision>
  <dc:subject/>
  <dc:title>Diapositiva 1</dc:title>
</cp:coreProperties>
</file>